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D18-EB2F-4BD9-804A-72076504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998-00E7-4232-B200-97A0DA8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C5F4C-81C2-4EC6-AA10-C08549D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D616-A0A5-4DA4-9EA1-10E7EDBF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7C05F-4E56-4A77-8724-4A4483A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6D3CA-442F-4696-8C67-61A2591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DA712-BBEF-4108-ADEC-126499D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D09E-859F-4791-B4D0-D1E223C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DA824-37E3-4BC3-82B5-CD3DFB9C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8C3A5-F366-4541-8D9C-867300CE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8F59-9BCF-41F1-B547-8F465BD8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74325-F40F-4559-AB62-187AD52F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B4D-B786-4489-A45F-824A4A47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D9730-85F9-4DCA-9460-2897F14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EF337-51AB-4DB9-B97E-5AE9612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F1067-ACDE-4CBC-88D1-2E4820D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E7AAA-068C-46D9-ACB5-E5E2AC87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DA63F-DE22-458F-8B23-624AF9F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50301-1D3B-4FF3-9921-104B862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9179-9462-4840-9779-B7621BA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22D3C-7BC2-47C4-8E5C-1A06FB2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ED63D-E122-41FD-8DBD-89CBCC7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C684C-E469-471D-A6FA-4E085EF9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666-0428-46CD-AD49-DA2C0CD2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A662C-278B-483D-8612-AB1D8561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BCEAF-B12C-4E07-8B25-82F29850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4E90-7BA3-4D7A-9E3E-566B0E8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BABEE-F7B2-412B-8042-9ED86EF1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24EAC-BE69-43D4-9D83-3432B60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847A8-8766-490E-9F7C-C9C69C7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BCF07-70D4-4C05-BF48-BF2700C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A348-BA71-44F1-9543-CAB7886F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21BA5-54D7-4E67-8DC1-CB68807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575B3-909E-4E8F-80F0-B6100DD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DD7-E108-43B5-80C8-B06CD6C2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8686F-A5C9-4E53-BA45-6C4F31E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CB625-11C8-49EC-B87B-5310C06C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E25E6-C5A8-4A38-9280-48AA73AD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CD6C8-7561-4C42-AD36-C7E0AA55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FC304-0A2E-4B4E-AE69-CEAB8D9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5C8A9-5F7E-4AD2-9AA7-5CB7ED5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611C-1C5E-4FAD-9F75-071E648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6B3AA-8C00-4BD0-B081-59047280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C9E17-3070-4971-B5B1-E3933FD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9FFE8-0E23-4C16-80C5-09536D0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256D-86A8-4A7B-9714-4230485D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75CE-0E19-41A1-A8F5-8C3D3F9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B2D94-186A-4078-BA0C-F1DC534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A7268-84A9-4E9F-856E-411F582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80860-363B-477B-84E2-5115B4B0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4556F-2089-4540-A780-4B575B9A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7696A-1C20-4BA6-B4A8-9E0A5343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667E8-3554-4F10-B660-163104DE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72599-D72D-40FB-9FE9-655CD7B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13602-FBF4-40FA-B2F3-AE81A97E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634E3-FD50-472C-84FD-580646C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D8BE-A791-4C49-A45E-9CC79B2D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DDD79-1E3A-4931-BD7E-0324248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D9890-E13B-4EA2-828E-A89463A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575C7-416D-4100-BF25-49FB2F5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701C1-9ABF-4661-A9DE-7BEE624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A74AC-65A2-4282-8502-80FFCD79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5E859-64F7-4496-B80D-01F62353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E5C50-5FA5-4F1E-91F2-946B1015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D28C7-9035-456A-AD73-9D910B01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A1A8B-9AFB-46E9-8FF9-E1607378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83ABC-5CFB-46E6-891F-F8E8D21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EE3B-CD5D-451D-B2E1-98C37CD3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A7A03-923F-4D72-A37F-AF4DEF50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6F884-AD5C-4D8D-9FF2-D7394FF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A46FD-8DB5-4AC8-90E6-9101820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8C954-D527-4076-B26B-452FBFC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39D8F-31AF-455F-9C26-67305EB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42C36-E79B-47B3-9D02-2247088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0DF59-E2F1-468F-BDB1-CE4E9CD9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6FD47-1377-4533-954E-2EFA341A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CDC8D-3F63-4B8A-8BE5-E2226A79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3EF23-7FAC-422A-B0D2-DA682826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5160-D5C6-49B7-BB81-B0C2B1A2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AF12A-F438-4826-93DA-F93A722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E181B-910C-4DB1-A78A-922C75E3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B7742-8FC1-4064-B4AD-C56F19B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95404-4F92-4FE1-A0D2-ECA78A5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99BA6-6B77-43A3-B44F-7BAC3F76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614B8-A0AC-41A3-A1E0-7A7647A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52B38-334F-4E24-8F78-A13437F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6F75E-259E-48AE-A3D3-8781692A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0B2FA-9753-497F-9680-53D6EC3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9879E-D14A-46B3-9A50-3FE387B2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6529-6754-4346-9115-CA02DCF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C703E-290C-4653-BE5E-97534D59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23341-A067-4846-91D5-BF1A2E77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A0135-4A38-4006-B37D-55999E0C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60C2D-E445-4DA0-905D-AC6C14A3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5ABD7-2B21-4B05-B8BF-96C50ED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13700-54FE-4D27-9324-5A7F3223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F0DF4-84FF-4A60-AB21-98A6B96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ADC96-D54E-4B98-BED0-F92CFAC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6C5AB-1AA3-4B9F-BFCA-3C66A79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ECC0D-E3BE-4DCA-BA82-DAB7C27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021-A3B2-4CD8-8752-C5E148E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97027-D51D-4C37-B672-7470EC66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45C2B-1213-4040-A816-BB12B419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46278-1FB6-4A29-8D66-E5497715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0CC5A-0FE0-4968-A74E-4BDFB51D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4B639-DCB1-43A4-B525-CC60F7E3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030D3-296E-4FCB-8D48-0C9767E7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024B1-9DEE-41DC-88BB-302205B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C4D9C-93CF-4C2F-ABE5-3EC960C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E2D1C-39A1-4777-A9E9-2D7A10A5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78D49-DACB-4BD5-A446-FADEB27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F51-8D02-43D5-ACF0-484ED3DF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E926-F2CD-41DE-9C73-487C418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B7FD4-11B7-44A5-A541-E8ADBB7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68977-C2B9-445E-A1C2-30A4005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FBC0E-8EC3-4983-9387-53C08089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1AD9D-8374-4BD3-B234-2B600F57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A74C8-6BA4-4738-84C6-0F651FBE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16FE2-3669-4FC0-8D98-22A12DE2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5D871-E661-4867-9220-264F43B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273B3-32B8-44C5-88EB-D029FE1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5B9C4-AD21-44A2-952E-41C58A7A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7893D-0539-413F-ADE6-C4EB10F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CACE-B70C-4DA8-883C-39824BF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A2DED-5F3F-4D50-AC79-895CFF8E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4221B-9045-4965-AAD9-D564730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D823D-13B0-4C44-BC87-D90802A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E2D23-CF95-4805-ACC1-216A700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007F6-3210-4148-9C86-6DE51E2F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FA533-62E7-4877-A276-A3183C94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B637E-5BED-41A3-B663-8DD929C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DECFE-A218-4644-A7C9-83D13BA6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BE8C5-F2A2-4C3F-B46C-4178777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FC56E-F416-47AE-B962-F0E9E74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3EA-D066-4BE4-9AD1-8337F9B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B1471-7736-4338-8DED-6B791D8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CED18-35F6-4402-BE4E-738A130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2024B-6552-42A1-9192-65ED71D2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E5B54-746D-4D03-B778-CBA0861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00209-7EC7-4D3E-ACC1-FAC1787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F9AE9-CB74-480A-A3F5-91866DE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8E98D-B507-450F-B40D-186ADC56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4576D-3B0B-437C-AA99-8A6B337D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077B5-7253-4F8F-A2D9-06A40F97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4F7E1-3DB7-4E88-A43C-3546F489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07C-0B68-4096-96F1-F9783DA1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61E300-7ECB-4AB0-9E8B-2DF788B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FA96D-AF92-4E07-85FD-984A5A8B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B4FC3-9631-461D-9943-D1F3B11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96E38-84DA-45FA-B728-898D2B08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BE8DB-D0E8-46F1-A442-E736CBE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561E5-52A5-4DD9-82BD-5181FCD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EB2A0-0E19-44DD-8B58-DA749B6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09E96-D2AF-4A32-B3F3-3FE600A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4F5CF-A51C-46D5-8DE1-89E203D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BC897-959B-433D-8847-8C16BA9D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80BE-ABA1-4F3E-B2AD-5740506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FA2F3-6170-4115-BAE7-A3C0C2C6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F2908-6D33-4D42-8385-5A36AAA1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3F643-4E57-4010-B882-1CC6B6C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A4A90-B07E-40DB-B211-3610BBF0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60D18-89A6-41DE-93C7-6AB9D35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E5665-6F2C-49AD-8994-8DC2574A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BB131-5B24-4160-B63C-1A39F46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20201-F969-4C24-B729-08A3C3A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20C69-B2FB-4E16-8DEE-FF1DB0E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9CA6E-8C5F-45A1-AF48-BA9FFD1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4E0A-0F4F-4F2C-BCC9-D4F249CE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D1F76-6B57-42A9-855A-F0D11388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1CAE8-B8AB-4F65-89D0-C62A8C6C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63B61-A389-40F0-B89D-8706FB05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7B8B9-2831-499D-8BED-F958FE07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F7646-DBA5-4921-ABF9-9B235DA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B5985B-89EC-4E46-A778-4E99CC19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DBF6F-A1E0-435B-8D1B-2CB3048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ED7A19-E833-4A04-9EDC-67BCB0F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F81F2-56C1-498A-A69F-29BEE6B9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DBF860-7BC6-41C0-94E7-6FE469C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3570-1F90-48EE-9D59-31465988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935AF-83C7-4918-8883-C2DE19C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65BFFC-EDEE-494E-86A9-D569FA7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2991ED-5ABD-4996-9510-4E9327B8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DED7E3-160C-4B67-86FE-F023D3E2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285CB5-F88F-4E3F-ABC3-84F69B45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1F83E-64C4-4ED4-B5F7-E77D1AC2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89D7C4-72E4-446E-B055-7D4B998E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981DD-CD74-40E4-9EBE-334DD917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8E8F28-F398-46A3-B99D-D3D4C7A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FCC52A-F243-4379-88E8-C0920EF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C687-77A7-4197-8DA6-2EA29695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9444A-6E94-4BAE-BBF5-BC36CFC6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4CD74-097A-4CCB-A0DF-A70D0BD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1F45B0-5603-41D6-926E-974DBE6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B8A6BE-E868-43EC-90C8-90B9826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D6A29-68C8-42C9-9483-BEC82C2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000FEC-74FC-4C38-BC42-EE517603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E9E20C-F142-4853-922E-ACBEFFD2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5BF617-15BE-496C-BED0-1A850D7C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52840A-AADF-47C2-BAA0-CBC8163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ECEF7-6052-47E1-A1DD-6671A78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DBFD-6B77-4F3C-B069-171AC17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793148-28FC-40BF-92E9-BF681FB0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9A5D2-E0B0-479B-91D3-2A8DBF1F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19008E-CE8D-43A8-AE59-614A9177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26CE6-6CFA-4E96-89EB-0C17B8F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B2545-1F62-480B-ABB5-93E0030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F2B18A-CAE3-44E9-814D-1FD2C7C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E98918-F465-4271-A478-2C9482C5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B7B60C-84CE-43FE-B2B2-D49E1BA8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A9128-409D-4917-9998-FB27A354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5F07-D495-4C1B-A532-F4C14382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9DB-3EEC-4601-875F-BE32A7D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D5AE-49BD-4455-8A61-EE89E7E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0A9C-421D-42F7-A1B8-7A0A2A0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80CC-46E6-4D41-A407-EC2C149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2C1B-8DB3-49FA-9C49-2F6FA1D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1A85-D7E8-4A70-9A3D-D7CF0D5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6EDD-30C6-4E9C-B27B-1B9F94D8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6F04-6505-480D-A0D1-CD20FAD6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C4F2-E047-4F01-9097-911AB32D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57E7-4236-4105-B0A8-087940D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5F14-36BA-4C5A-92D7-08E661A7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28A-F702-46C6-A260-63CFC36C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92D6-AE5C-4F64-93C1-A9AB649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A6C9-B767-4307-B00E-5C6BA81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70727-1E42-4CAA-B9FD-3566EDF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1E0D-E9B2-475B-B6C1-DE8AA20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4F71-EB6E-489A-A664-5293672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5FF5-FFA5-4831-A0F6-E22F51E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760D-EBC8-4BFA-99C0-9FD70AC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E0D7-9B70-4E50-B997-A4CA8A01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385E-51B9-4AAB-9D61-C9ADB6B2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DBA0A-204D-4B86-9092-6074DCFE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48A-5D96-44B3-A95F-BDA3683B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3C3E-96C2-4CB5-B24B-38F39D4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7338-3A34-466F-901E-08158D2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63BB-5527-44FF-80CA-7866B8D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92DD3-1565-4489-B037-C3E8F19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F027-8752-4428-B930-6C562CD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EB1A-211F-444B-9BF3-21710F5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2E2B-3D6F-400E-92EF-B6BC1FB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C1F0-A0BB-4F9D-8CC5-1E16A89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81DC-8344-487F-B4C3-A19A9A8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9EEC-934C-461E-9A15-098CCE96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2AC-23E2-4380-BCDF-AF5C8FA8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D599-ABFD-43C7-87B2-D6F1CB78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72DA9-2E6F-4BC3-9469-8C19747B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769F-42AC-46CC-B416-88FBF5E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192D-F0EB-4A34-AC0D-A9E802A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6EB8-FA77-476B-B0C1-C6DC474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9A70-955A-4A01-872F-FA98E72E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7064-3132-4A9A-82A8-D96A38C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57C2-88B2-4822-B4EC-6DC9DAA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2B9D-4567-4AE4-9BAA-E6AB2453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95C1-96A0-4208-B80C-4AB50BD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3C8-A3C1-41BA-AE20-290BEA4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4C1A-B524-4E5C-875A-0548E9BC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1E47-CB3C-4A72-BCA2-BCF838F4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3C621-AEA6-4E19-B0BB-567CAE3B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03AF-811B-455B-AD5F-8ED3C98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8F42-89AE-4DC9-8A83-CC661D8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59351-906F-4D86-A6DE-031DBB9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AA609-66D0-4A8B-9E00-55756EF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DF56-4213-413C-83E2-7AEEC9B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38A9-2C33-4443-B7A2-FE57EF6A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89CDE-E3E0-4E4A-A2F2-6A66113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AE3-404A-45F6-941A-9A514E9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14F3-3622-4390-B924-EF50861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2B67-5C75-41D1-9643-3CC937B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641F-3E95-4968-9B0E-D8DDA8A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73E09-5174-4D9A-84BD-0EC53E58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6F7A-EF04-43E4-B6A1-A5124779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84184-BDE7-4EBF-921D-85FF2CF6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C680-74ED-41CA-8A37-1A9C1CB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81FF-9BE3-46F1-936D-1C791B2B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66B2-4E3A-46B3-BAEF-F24365A5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5E45-F079-4D97-9FD1-415048C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BFB-BBBA-4EAF-80C6-BC30F48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0864-1CB4-4B99-8EF7-053D8AC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0D5F-B9E8-46C1-9C7D-174D7FE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2F130-7434-4615-9928-A4A65EA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FB5F-FC97-42E2-B828-29E79E2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C7300-36EF-449A-A644-5DA534E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B3F0-59D5-4847-8CB4-4110AB28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1C4A-C95D-4092-AB06-717542C0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4AF9-DB1C-449F-86CF-CFF54E27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0A5FB-F316-4227-A27B-CCAD0E7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50CF8-9A34-4F02-B3B3-ADEF774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202-A997-4858-95CB-4BA59D559FC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238-1EB5-4A43-A70E-6D00BCC221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8F5-3957-4E19-BA8D-B59B10C88EF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6EA2-E8BC-40B7-8B8C-B18827A353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943-E97F-48C5-9A9E-E2B3C9FACC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AF58-3A81-45D9-B083-84FE746959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65C7-D09C-48BE-BC77-1913D41DEF8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DF4F-B501-4C05-BC1E-6070BC58E29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BC2-1E69-4E2E-98F6-A93B9C6FFC4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E45-885C-49E7-A197-2C9F7E2B11D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50F2-2AF6-4756-9332-6A4DF55BAD7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5029-4774-4844-A677-392D9093EB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822-109B-4A2D-834D-FBDC083392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386C-97EE-45E5-A61C-A642BFF850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D09-C978-460D-97B2-642261AB32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B3ED-32C4-4DCA-B9C6-2D000B17A88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966-B794-4CEF-8583-B06AF791526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1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EE12-D243-40C1-BBE9-3E3834FAA5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738-3431-4109-B5B3-3C22A9BFF1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4FD3-9672-454E-AD1F-67CCB05032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3AF-D0C7-4222-9139-D6C2269CF2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8EED-DD17-48A4-994A-5A4E991569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BFD1-0C75-460E-B41E-54D7C80971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B9C-5AED-4647-B496-9A7965C0F47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</a:rPr>
              <a:t>暮江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4100"/>
          <p:cNvSpPr txBox="1"/>
          <p:nvPr/>
        </p:nvSpPr>
        <p:spPr>
          <a:xfrm>
            <a:off x="2971800" y="380880"/>
            <a:ext cx="2666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暮江吟</a:t>
            </a:r>
            <a:endParaRPr b="0" i="1" lang="en-US" sz="48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诗意体会古诗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尝试背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诗。要求：声音洪亮，吐字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桌赛读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不理解的字词或诗句设法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问同桌、查工具书、问老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8195"/>
          <p:cNvSpPr txBox="1"/>
          <p:nvPr/>
        </p:nvSpPr>
        <p:spPr>
          <a:xfrm>
            <a:off x="609480" y="4572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自学方法</a:t>
            </a:r>
            <a:endParaRPr b="0" i="1" lang="en-US" sz="6000" spc="-1" strike="noStrike" u="sng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道残阳铺水中，                半江瑟瑟半江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可怜九月初三夜，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露似真珠月似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量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古诗并划分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描写了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以下词意试着说说诗句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：傍晚       吟：歌咏            残阳：夕阳。 铺：铺展。    瑟瑟：形容江水的碧绿。    可怜：可爱。    似：好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助学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这首诗描绘了傍晚到夜晚深秋江边的景色，描绘了残阳铺水中，江水半江瑟瑟半江红，初三夜可怜，露似珍珠月似弓等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本诗运用了比喻的手法，把露珠比作珍珠，把月亮比作弓，创造出和谐宁静的意境。本诗表达了作者对大自然的喜悦热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用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写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7411"/>
          <p:cNvSpPr/>
          <p:nvPr/>
        </p:nvSpPr>
        <p:spPr>
          <a:xfrm flipV="1">
            <a:off x="2514600" y="3276360"/>
            <a:ext cx="358128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7" name="直接连接符 17412"/>
          <p:cNvSpPr/>
          <p:nvPr/>
        </p:nvSpPr>
        <p:spPr>
          <a:xfrm>
            <a:off x="2666880" y="4114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8" name="直接连接符 17413"/>
          <p:cNvSpPr/>
          <p:nvPr/>
        </p:nvSpPr>
        <p:spPr>
          <a:xfrm>
            <a:off x="25909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9" name="直接连接符 17414"/>
          <p:cNvSpPr/>
          <p:nvPr/>
        </p:nvSpPr>
        <p:spPr>
          <a:xfrm flipV="1">
            <a:off x="2590920" y="4876560"/>
            <a:ext cx="3733560" cy="7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0" name="直接连接符 17415"/>
          <p:cNvSpPr/>
          <p:nvPr/>
        </p:nvSpPr>
        <p:spPr>
          <a:xfrm flipV="1">
            <a:off x="2590920" y="5638680"/>
            <a:ext cx="38862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测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（      ）代诗人（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在这首诗中，诗人 选取（        ）西落到（          ）东升时江上的景色，用生动形象的描写来表达自己（        ）的心情。题目的意思是（              ）。这首诗运用了（           ）的手法，把（           ）比作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把（          ）比作（       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41Z</dcterms:created>
  <dc:creator/>
  <dc:description/>
  <dc:language>en-US</dc:language>
  <cp:lastModifiedBy>万润仪器贸易公司</cp:lastModifiedBy>
  <dcterms:modified xsi:type="dcterms:W3CDTF">2020-08-24T03:31:5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